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356C-6AD1-4F4A-8EBB-A4619A05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8E66-9BFB-4B05-A96B-8017B3FA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4129-2650-4AD1-B611-FE30A1FA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7760-ED69-4425-B97A-B86087CE1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7CCD-3869-4A3C-98F8-D4D581429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7289-DD93-4BDA-8299-6EBF1440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DB5F-F07C-4BA6-B351-10FB8D47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57A8-F98A-4410-89DA-3B6B0041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727B-A08B-4A8C-BA29-5D087EAF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948A-1C96-4C30-A68B-44F9F7F2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3A0A-5C34-4E4E-9F78-56B638F4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03A3-319F-4989-9ED1-C54509B8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2A8C-7897-419F-B5B7-7DE59EC5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6E6D-7945-4178-A144-31FD74B5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137E-ED37-4CCE-9408-32ED9401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738E-45D3-4C93-B476-C772B8AE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E243-F563-433A-BEA5-9A3CE0E01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7B7D-9EF5-499D-9F2B-015C9308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F8A9-8098-4F07-971B-8ED2C98E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3A56-9DAD-4C16-A418-CBB9D334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A167-0CD7-4A2F-81C3-E6C489DE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4029-BBB5-4949-84B6-115CA499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4ADF-9700-4B55-8D75-70429E08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6D50-A168-46F0-88F6-5A2DF70B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c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99ff3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ff33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99ff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AE68-E6BA-418F-A597-5638A110C641}" type="slidenum">
              <a:rPr b="0" lang="en-US" sz="14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cc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99ff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99ff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99ff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E850-0FC7-4AC3-940B-A4E5A5122546}" type="slidenum">
              <a:rPr b="0" lang="en-US" sz="14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Salt vs Sugar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 Black"/>
              </a:rPr>
              <a:t>Shelby Schroeder</a:t>
            </a:r>
            <a:endParaRPr b="0" lang="en-US" sz="20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Resul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People could tell the difference. The salt was hard and big and the sugar was slimy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onclusion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Salt and sugar crystals look very different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Girls made better observations than the boys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Girls could tell the difference better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Major Observation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People looked at each crystal very quickly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When given the chance, people didn’t look through the microscope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The sugar crystal took longer and didn’t grow as big.  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Possible Causes of Erro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How sunny it was each day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I didn’t have enough time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The sugar crystal didn’t have time to dry out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Further Research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I might test to see if time is a factor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Time Spent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All science fair workdays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Acknowledgements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Mrs. Riffle 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Max 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Edward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Kyler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Hannah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Jessica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Kac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533520" y="21333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Can people tell the difference between salt and sugar crystals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76212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Arial Black"/>
              </a:rPr>
              <a:t>Problem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Salt and sugar look alike, but what if it is crystallized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Background Info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Salt comes from underground mines.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Sugar comes from plants called cane sugar.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Too much of both is very bad for a persons body.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Both can be crystallized.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Hypothesi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I predict people will be able to tell the difference between sugar and salt crystals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8120" y="380880"/>
            <a:ext cx="30477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Material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2 cups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2 pieces of string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2 paperclips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Sugar 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Salt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Water 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A sunny place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Microscope 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People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352680" y="304560"/>
            <a:ext cx="2286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Peopl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352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Edward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Max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Clayton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Kyler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Kaci 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Jessica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Hannah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742840" y="456840"/>
            <a:ext cx="3429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Procedur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I will place the sugar and salt crystal making tools in a sunny place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Sugar and salt crystals will grow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People will describe what each is like to me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They will see if they can tell the difference between the two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Variabl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Independent: Results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Dependent: Boys &amp; Girls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Controlled: Same Crystals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7:10:06Z</dcterms:created>
  <dc:creator>USD376</dc:creator>
  <dc:description/>
  <dc:language>en-US</dc:language>
  <cp:lastModifiedBy>USD376</cp:lastModifiedBy>
  <dcterms:modified xsi:type="dcterms:W3CDTF">2012-03-19T14:57:05Z</dcterms:modified>
  <cp:revision>15</cp:revision>
  <dc:subject/>
  <dc:title>Can People Actually Tell if its More Expensive?</dc:title>
</cp:coreProperties>
</file>